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8178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ea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os_fond_bleu" descr=""/>
          <p:cNvPicPr/>
          <p:nvPr/>
        </p:nvPicPr>
        <p:blipFill>
          <a:blip r:embed="rId2"/>
          <a:srcRect l="9528" t="2244" r="10163" b="88881"/>
          <a:stretch/>
        </p:blipFill>
        <p:spPr>
          <a:xfrm>
            <a:off x="4592520" y="6146640"/>
            <a:ext cx="4551480" cy="7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7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8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9.wmf"/><Relationship Id="rId18" Type="http://schemas.openxmlformats.org/officeDocument/2006/relationships/image" Target="../media/image4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2.wmf"/><Relationship Id="rId24" Type="http://schemas.openxmlformats.org/officeDocument/2006/relationships/image" Target="../media/image10.wmf"/><Relationship Id="rId25" Type="http://schemas.openxmlformats.org/officeDocument/2006/relationships/image" Target="../media/image2.wmf"/><Relationship Id="rId26" Type="http://schemas.openxmlformats.org/officeDocument/2006/relationships/image" Target="../media/image13.wmf"/><Relationship Id="rId27" Type="http://schemas.openxmlformats.org/officeDocument/2006/relationships/image" Target="../media/image2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4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4.wmf"/><Relationship Id="rId34" Type="http://schemas.openxmlformats.org/officeDocument/2006/relationships/image" Target="../media/image16.wmf"/><Relationship Id="rId35" Type="http://schemas.openxmlformats.org/officeDocument/2006/relationships/image" Target="../media/image17.wmf"/><Relationship Id="rId36" Type="http://schemas.openxmlformats.org/officeDocument/2006/relationships/image" Target="../media/image16.wmf"/><Relationship Id="rId37" Type="http://schemas.openxmlformats.org/officeDocument/2006/relationships/image" Target="../media/image18.wmf"/><Relationship Id="rId38" Type="http://schemas.openxmlformats.org/officeDocument/2006/relationships/image" Target="../media/image19.wmf"/><Relationship Id="rId39" Type="http://schemas.openxmlformats.org/officeDocument/2006/relationships/image" Target="../media/image18.wmf"/><Relationship Id="rId40" Type="http://schemas.openxmlformats.org/officeDocument/2006/relationships/image" Target="../media/image4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21.wmf"/><Relationship Id="rId45" Type="http://schemas.openxmlformats.org/officeDocument/2006/relationships/image" Target="../media/image4.wmf"/><Relationship Id="rId46" Type="http://schemas.openxmlformats.org/officeDocument/2006/relationships/image" Target="../media/image10.wmf"/><Relationship Id="rId47" Type="http://schemas.openxmlformats.org/officeDocument/2006/relationships/image" Target="../media/image12.wmf"/><Relationship Id="rId48" Type="http://schemas.openxmlformats.org/officeDocument/2006/relationships/image" Target="../media/image10.wmf"/><Relationship Id="rId49" Type="http://schemas.openxmlformats.org/officeDocument/2006/relationships/image" Target="../media/image14.wmf"/><Relationship Id="rId50" Type="http://schemas.openxmlformats.org/officeDocument/2006/relationships/image" Target="../media/image15.wmf"/><Relationship Id="rId51" Type="http://schemas.openxmlformats.org/officeDocument/2006/relationships/image" Target="../media/image14.wmf"/><Relationship Id="rId52" Type="http://schemas.openxmlformats.org/officeDocument/2006/relationships/image" Target="../media/image14.wmf"/><Relationship Id="rId53" Type="http://schemas.openxmlformats.org/officeDocument/2006/relationships/image" Target="../media/image22.wmf"/><Relationship Id="rId54" Type="http://schemas.openxmlformats.org/officeDocument/2006/relationships/image" Target="../media/image14.wmf"/><Relationship Id="rId55" Type="http://schemas.openxmlformats.org/officeDocument/2006/relationships/image" Target="../media/image4.wmf"/><Relationship Id="rId56" Type="http://schemas.openxmlformats.org/officeDocument/2006/relationships/image" Target="../media/image23.wmf"/><Relationship Id="rId57" Type="http://schemas.openxmlformats.org/officeDocument/2006/relationships/image" Target="../media/image4.wmf"/><Relationship Id="rId58" Type="http://schemas.openxmlformats.org/officeDocument/2006/relationships/image" Target="../media/image4.wmf"/><Relationship Id="rId59" Type="http://schemas.openxmlformats.org/officeDocument/2006/relationships/image" Target="../media/image24.wmf"/><Relationship Id="rId60" Type="http://schemas.openxmlformats.org/officeDocument/2006/relationships/image" Target="../media/image4.wmf"/><Relationship Id="rId61" Type="http://schemas.openxmlformats.org/officeDocument/2006/relationships/image" Target="../media/image10.wmf"/><Relationship Id="rId62" Type="http://schemas.openxmlformats.org/officeDocument/2006/relationships/image" Target="../media/image12.wmf"/><Relationship Id="rId63" Type="http://schemas.openxmlformats.org/officeDocument/2006/relationships/image" Target="../media/image10.wmf"/><Relationship Id="rId64" Type="http://schemas.openxmlformats.org/officeDocument/2006/relationships/image" Target="../media/image10.wmf"/><Relationship Id="rId65" Type="http://schemas.openxmlformats.org/officeDocument/2006/relationships/image" Target="../media/image25.wmf"/><Relationship Id="rId66" Type="http://schemas.openxmlformats.org/officeDocument/2006/relationships/image" Target="../media/image10.wmf"/><Relationship Id="rId67" Type="http://schemas.openxmlformats.org/officeDocument/2006/relationships/image" Target="../media/image2.wmf"/><Relationship Id="rId68" Type="http://schemas.openxmlformats.org/officeDocument/2006/relationships/image" Target="../media/image26.wmf"/><Relationship Id="rId69" Type="http://schemas.openxmlformats.org/officeDocument/2006/relationships/image" Target="../media/image2.wmf"/><Relationship Id="rId70" Type="http://schemas.openxmlformats.org/officeDocument/2006/relationships/image" Target="../media/image14.wmf"/><Relationship Id="rId71" Type="http://schemas.openxmlformats.org/officeDocument/2006/relationships/image" Target="../media/image15.wmf"/><Relationship Id="rId72" Type="http://schemas.openxmlformats.org/officeDocument/2006/relationships/image" Target="../media/image14.wmf"/><Relationship Id="rId73" Type="http://schemas.openxmlformats.org/officeDocument/2006/relationships/image" Target="../media/image14.wmf"/><Relationship Id="rId74" Type="http://schemas.openxmlformats.org/officeDocument/2006/relationships/image" Target="../media/image27.wmf"/><Relationship Id="rId75" Type="http://schemas.openxmlformats.org/officeDocument/2006/relationships/image" Target="../media/image14.wmf"/><Relationship Id="rId76" Type="http://schemas.openxmlformats.org/officeDocument/2006/relationships/image" Target="../media/image14.wmf"/><Relationship Id="rId77" Type="http://schemas.openxmlformats.org/officeDocument/2006/relationships/image" Target="../media/image15.wmf"/><Relationship Id="rId78" Type="http://schemas.openxmlformats.org/officeDocument/2006/relationships/image" Target="../media/image14.wmf"/><Relationship Id="rId79" Type="http://schemas.openxmlformats.org/officeDocument/2006/relationships/image" Target="../media/image14.wmf"/><Relationship Id="rId80" Type="http://schemas.openxmlformats.org/officeDocument/2006/relationships/image" Target="../media/image28.wmf"/><Relationship Id="rId81" Type="http://schemas.openxmlformats.org/officeDocument/2006/relationships/image" Target="../media/image14.wmf"/><Relationship Id="rId82" Type="http://schemas.openxmlformats.org/officeDocument/2006/relationships/image" Target="../media/image14.wmf"/><Relationship Id="rId83" Type="http://schemas.openxmlformats.org/officeDocument/2006/relationships/image" Target="../media/image29.wmf"/><Relationship Id="rId84" Type="http://schemas.openxmlformats.org/officeDocument/2006/relationships/image" Target="../media/image14.wmf"/><Relationship Id="rId85" Type="http://schemas.openxmlformats.org/officeDocument/2006/relationships/image" Target="../media/image10.wmf"/><Relationship Id="rId86" Type="http://schemas.openxmlformats.org/officeDocument/2006/relationships/image" Target="../media/image12.wmf"/><Relationship Id="rId87" Type="http://schemas.openxmlformats.org/officeDocument/2006/relationships/image" Target="../media/image10.wmf"/><Relationship Id="rId88" Type="http://schemas.openxmlformats.org/officeDocument/2006/relationships/image" Target="../media/image10.wmf"/><Relationship Id="rId89" Type="http://schemas.openxmlformats.org/officeDocument/2006/relationships/image" Target="../media/image12.wmf"/><Relationship Id="rId90" Type="http://schemas.openxmlformats.org/officeDocument/2006/relationships/image" Target="../media/image10.wmf"/><Relationship Id="rId91" Type="http://schemas.openxmlformats.org/officeDocument/2006/relationships/image" Target="../media/image10.wmf"/><Relationship Id="rId92" Type="http://schemas.openxmlformats.org/officeDocument/2006/relationships/image" Target="../media/image30.wmf"/><Relationship Id="rId93" Type="http://schemas.openxmlformats.org/officeDocument/2006/relationships/image" Target="../media/image10.wmf"/><Relationship Id="rId94" Type="http://schemas.openxmlformats.org/officeDocument/2006/relationships/image" Target="../media/image10.wmf"/><Relationship Id="rId95" Type="http://schemas.openxmlformats.org/officeDocument/2006/relationships/image" Target="../media/image12.wmf"/><Relationship Id="rId96" Type="http://schemas.openxmlformats.org/officeDocument/2006/relationships/image" Target="../media/image10.wmf"/><Relationship Id="rId97" Type="http://schemas.openxmlformats.org/officeDocument/2006/relationships/image" Target="../media/image10.wmf"/><Relationship Id="rId98" Type="http://schemas.openxmlformats.org/officeDocument/2006/relationships/image" Target="../media/image31.wmf"/><Relationship Id="rId99" Type="http://schemas.openxmlformats.org/officeDocument/2006/relationships/image" Target="../media/image10.wmf"/><Relationship Id="rId100" Type="http://schemas.openxmlformats.org/officeDocument/2006/relationships/image" Target="../media/image10.wmf"/><Relationship Id="rId101" Type="http://schemas.openxmlformats.org/officeDocument/2006/relationships/image" Target="../media/image32.wmf"/><Relationship Id="rId102" Type="http://schemas.openxmlformats.org/officeDocument/2006/relationships/image" Target="../media/image10.wmf"/><Relationship Id="rId103" Type="http://schemas.openxmlformats.org/officeDocument/2006/relationships/image" Target="../media/image4.wmf"/><Relationship Id="rId104" Type="http://schemas.openxmlformats.org/officeDocument/2006/relationships/image" Target="../media/image5.wmf"/><Relationship Id="rId105" Type="http://schemas.openxmlformats.org/officeDocument/2006/relationships/image" Target="../media/image4.wmf"/><Relationship Id="rId106" Type="http://schemas.openxmlformats.org/officeDocument/2006/relationships/image" Target="../media/image4.wmf"/><Relationship Id="rId107" Type="http://schemas.openxmlformats.org/officeDocument/2006/relationships/image" Target="../media/image5.wmf"/><Relationship Id="rId108" Type="http://schemas.openxmlformats.org/officeDocument/2006/relationships/image" Target="../media/image4.wmf"/><Relationship Id="rId109" Type="http://schemas.openxmlformats.org/officeDocument/2006/relationships/image" Target="../media/image10.wmf"/><Relationship Id="rId110" Type="http://schemas.openxmlformats.org/officeDocument/2006/relationships/image" Target="../media/image12.wmf"/><Relationship Id="rId111" Type="http://schemas.openxmlformats.org/officeDocument/2006/relationships/image" Target="../media/image10.wmf"/><Relationship Id="rId112" Type="http://schemas.openxmlformats.org/officeDocument/2006/relationships/image" Target="../media/image10.wmf"/><Relationship Id="rId113" Type="http://schemas.openxmlformats.org/officeDocument/2006/relationships/image" Target="../media/image33.wmf"/><Relationship Id="rId114" Type="http://schemas.openxmlformats.org/officeDocument/2006/relationships/image" Target="../media/image10.wmf"/><Relationship Id="rId115" Type="http://schemas.openxmlformats.org/officeDocument/2006/relationships/image" Target="../media/image14.wmf"/><Relationship Id="rId116" Type="http://schemas.openxmlformats.org/officeDocument/2006/relationships/image" Target="../media/image15.wmf"/><Relationship Id="rId117" Type="http://schemas.openxmlformats.org/officeDocument/2006/relationships/image" Target="../media/image14.wmf"/><Relationship Id="rId118" Type="http://schemas.openxmlformats.org/officeDocument/2006/relationships/image" Target="../media/image2.wmf"/><Relationship Id="rId119" Type="http://schemas.openxmlformats.org/officeDocument/2006/relationships/image" Target="../media/image34.wmf"/><Relationship Id="rId120" Type="http://schemas.openxmlformats.org/officeDocument/2006/relationships/image" Target="../media/image2.wmf"/><Relationship Id="rId121" Type="http://schemas.openxmlformats.org/officeDocument/2006/relationships/image" Target="../media/image2.wmf"/><Relationship Id="rId122" Type="http://schemas.openxmlformats.org/officeDocument/2006/relationships/image" Target="../media/image34.wmf"/><Relationship Id="rId123" Type="http://schemas.openxmlformats.org/officeDocument/2006/relationships/image" Target="../media/image2.wmf"/><Relationship Id="rId124" Type="http://schemas.openxmlformats.org/officeDocument/2006/relationships/image" Target="../media/image14.wmf"/><Relationship Id="rId125" Type="http://schemas.openxmlformats.org/officeDocument/2006/relationships/image" Target="../media/image35.wmf"/><Relationship Id="rId126" Type="http://schemas.openxmlformats.org/officeDocument/2006/relationships/image" Target="../media/image14.wmf"/><Relationship Id="rId127" Type="http://schemas.openxmlformats.org/officeDocument/2006/relationships/image" Target="../media/image14.wmf"/><Relationship Id="rId128" Type="http://schemas.openxmlformats.org/officeDocument/2006/relationships/image" Target="../media/image15.wmf"/><Relationship Id="rId129" Type="http://schemas.openxmlformats.org/officeDocument/2006/relationships/image" Target="../media/image14.wmf"/><Relationship Id="rId1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SpisNum/doc/index.html" TargetMode="External"/><Relationship Id="rId2" Type="http://schemas.openxmlformats.org/officeDocument/2006/relationships/hyperlink" Target="file:///../SpisNum/doc/index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Course on SPIS Numerica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or SPIS/NUM, or "the solvers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4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J.-F. Roussel, F. Rogi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D. Volpert,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NERA / D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04920" y="114300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va Integrated  Development Environment (IDE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 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UI debu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yntax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omatic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yper-text nav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vadoc compat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ss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d development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fficiency gain to enter in an unknown code even larger (SP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ry good quality product (few bugs, sta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lipse pro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n source, communit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w IBM is the major contributor (remains free open 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19080" y="0"/>
            <a:ext cx="6114240" cy="609480"/>
            <a:chOff x="-19080" y="0"/>
            <a:chExt cx="6114240" cy="609480"/>
          </a:xfrm>
        </p:grpSpPr>
        <p:sp>
          <p:nvSpPr>
            <p:cNvPr id="462" name=""/>
            <p:cNvSpPr/>
            <p:nvPr/>
          </p:nvSpPr>
          <p:spPr>
            <a:xfrm>
              <a:off x="324360" y="0"/>
              <a:ext cx="4843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Eclipse: a wonderful java I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19080" y="152280"/>
              <a:ext cx="611424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200400" y="167652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1676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ical in Fort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22860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590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e step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04920" y="1447920"/>
            <a:ext cx="86104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demonstrating the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view of top leve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unning the examples: watching objects at work in Ec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ing code in Eclipse (tomorrow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-19080" y="0"/>
            <a:ext cx="8628480" cy="609480"/>
            <a:chOff x="-19080" y="0"/>
            <a:chExt cx="8628480" cy="609480"/>
          </a:xfrm>
        </p:grpSpPr>
        <p:sp>
          <p:nvSpPr>
            <p:cNvPr id="470" name=""/>
            <p:cNvSpPr/>
            <p:nvPr/>
          </p:nvSpPr>
          <p:spPr>
            <a:xfrm>
              <a:off x="465840" y="0"/>
              <a:ext cx="6834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SPIS/NUM top level objects and exa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9080" y="152280"/>
              <a:ext cx="862848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 Oriented Programming concepts (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IS/NUM 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ML diagram (Universal Modelling Langu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vadDoc 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clipse 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to Java O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Java IDE: Ec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IS/NUM top level objects and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9080" y="0"/>
            <a:ext cx="2228760" cy="609480"/>
            <a:chOff x="-19080" y="0"/>
            <a:chExt cx="2228760" cy="609480"/>
          </a:xfrm>
        </p:grpSpPr>
        <p:sp>
          <p:nvSpPr>
            <p:cNvPr id="43" name=""/>
            <p:cNvSpPr/>
            <p:nvPr/>
          </p:nvSpPr>
          <p:spPr>
            <a:xfrm>
              <a:off x="106200" y="0"/>
              <a:ext cx="1765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Outli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9080" y="152280"/>
              <a:ext cx="222876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52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tains 3 types of mem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or data, variable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onstructor(s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~ initialis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~ subrouti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“self-contained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is initialised by a constructor (mandatory to build an o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hods act mostly on object own fields (they often have no or few parame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, Electric Field ob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contains (field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eld values (a VolumeField in SP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 Poisson solver (it is self-contain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y are defined in the constructor: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w PoissonSolver(fieldValues, poissonSolve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4640" indent="-5169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olve()              (no parameters nee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getPotential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0200" indent="-4431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19080" y="0"/>
            <a:ext cx="8933040" cy="609480"/>
            <a:chOff x="-19080" y="0"/>
            <a:chExt cx="8933040" cy="609480"/>
          </a:xfrm>
        </p:grpSpPr>
        <p:sp>
          <p:nvSpPr>
            <p:cNvPr id="47" name=""/>
            <p:cNvSpPr/>
            <p:nvPr/>
          </p:nvSpPr>
          <p:spPr>
            <a:xfrm>
              <a:off x="482760" y="0"/>
              <a:ext cx="707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bject Oriented Programming concepts (OOP)   1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19080" y="152280"/>
              <a:ext cx="893304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2952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distinction must be done betw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~ a type of object, a model (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Fortran 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instance(s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 objects following that model (variables of that type Fortran 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lass: a PIC (Particle-In-Cell) Volume Distribution  (distribution represented by Monte-Carlo samp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instances possib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ons = new PicVolDistrib(ionType, etc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ectrons = new PicVolDistrib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19080" y="0"/>
            <a:ext cx="8857080" cy="609480"/>
            <a:chOff x="-19080" y="0"/>
            <a:chExt cx="8857080" cy="609480"/>
          </a:xfrm>
        </p:grpSpPr>
        <p:sp>
          <p:nvSpPr>
            <p:cNvPr id="51" name=""/>
            <p:cNvSpPr/>
            <p:nvPr/>
          </p:nvSpPr>
          <p:spPr>
            <a:xfrm>
              <a:off x="478440" y="0"/>
              <a:ext cx="7015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bject Oriented Programming concepts (OOP)   2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-19080" y="152280"/>
              <a:ext cx="885708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2952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eritag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rom a class, other classes can be deri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y have the parent-class members + others to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rived classes can have several interest: enrichment, speci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ticleList has all particles similar (same type &amp; weight)        RichParticleList has different particles (involves extra tables for particles types and weigh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re the idea is enrichment (more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rfaceField has two derived typ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calarSurface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ectorSurface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re, the idea is rather specialisation than enrich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19080" y="0"/>
            <a:ext cx="8704800" cy="609480"/>
            <a:chOff x="-19080" y="0"/>
            <a:chExt cx="8704800" cy="609480"/>
          </a:xfrm>
        </p:grpSpPr>
        <p:sp>
          <p:nvSpPr>
            <p:cNvPr id="55" name=""/>
            <p:cNvSpPr/>
            <p:nvPr/>
          </p:nvSpPr>
          <p:spPr>
            <a:xfrm>
              <a:off x="470160" y="0"/>
              <a:ext cx="6895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OP concepts: Heritage   3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-19080" y="152280"/>
              <a:ext cx="870480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>
            <a:off x="6552720" y="3505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762120"/>
            <a:ext cx="9067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previous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stances of parent-class ParticleList can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tances of SurfaceField cannot exist, what would be the data stored, scalar or vector? (an object must be initialised with its data in the constru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rfaceField is an abstract class, it cannot be instantiated, only ScalarSurfaceField or VectorSurfaceField can have instances (real existing ob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olumeDistribution class: object representing matter, but not defined enough to create a real object (cannot be instantiat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ly derived classes can be instantiated: a PicVolumeDistribution, an AnalyticalVolumeDitribution (Maxwell-Boltzmann), or a FluidVolumeDistrib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tran programmer think: “but why have these sub-classes (or sub-types) derived from a common parent class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960" indent="-23976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enericity / polymorphis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arent class defines abstract methods, which must be implemented by its derived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 here: move(time), getMoment(order)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mplementation is very different for PIC or fluid, but results are similar =&gt; a plasma can handle any type of distribution on the same footing whatever its sub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19080" y="0"/>
            <a:ext cx="8704800" cy="609480"/>
            <a:chOff x="-19080" y="0"/>
            <a:chExt cx="8704800" cy="609480"/>
          </a:xfrm>
        </p:grpSpPr>
        <p:sp>
          <p:nvSpPr>
            <p:cNvPr id="60" name=""/>
            <p:cNvSpPr/>
            <p:nvPr/>
          </p:nvSpPr>
          <p:spPr>
            <a:xfrm>
              <a:off x="470160" y="0"/>
              <a:ext cx="6895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OP concepts: genericity - polymorphism   4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19080" y="152280"/>
              <a:ext cx="870480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82440" y="380880"/>
            <a:ext cx="9061200" cy="5808600"/>
            <a:chOff x="82440" y="380880"/>
            <a:chExt cx="9061200" cy="5808600"/>
          </a:xfrm>
        </p:grpSpPr>
        <p:sp>
          <p:nvSpPr>
            <p:cNvPr id="63" name=""/>
            <p:cNvSpPr/>
            <p:nvPr/>
          </p:nvSpPr>
          <p:spPr>
            <a:xfrm>
              <a:off x="3790800" y="2231640"/>
              <a:ext cx="803160" cy="401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5640" y="2271600"/>
              <a:ext cx="39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ob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78640" y="24271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0800" y="3201840"/>
              <a:ext cx="900000" cy="263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17880" y="32396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lobal Fl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7040" y="1633320"/>
              <a:ext cx="900360" cy="3920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5720" y="1672920"/>
              <a:ext cx="84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VolInter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01880" y="3142800"/>
              <a:ext cx="784080" cy="293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49480" y="317160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C Fl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440" y="2408040"/>
              <a:ext cx="909360" cy="105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9440" y="2447640"/>
              <a:ext cx="71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article 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440" y="2624040"/>
              <a:ext cx="909360" cy="8413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10880" y="2642760"/>
              <a:ext cx="15732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10880" y="2642760"/>
              <a:ext cx="157320" cy="1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110880" y="2642760"/>
              <a:ext cx="157320" cy="1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68200" y="2642760"/>
              <a:ext cx="51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si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110880" y="2790720"/>
              <a:ext cx="1573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110880" y="2790720"/>
              <a:ext cx="1573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110880" y="2790720"/>
              <a:ext cx="15732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68560" y="279072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Veloc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7"/>
            <a:stretch/>
          </p:blipFill>
          <p:spPr>
            <a:xfrm>
              <a:off x="110880" y="2946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110880" y="2946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>
              <a:off x="110880" y="2946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68560" y="294624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eigh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0"/>
            <a:stretch/>
          </p:blipFill>
          <p:spPr>
            <a:xfrm>
              <a:off x="110880" y="310320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1"/>
            <a:stretch/>
          </p:blipFill>
          <p:spPr>
            <a:xfrm>
              <a:off x="110880" y="310320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2"/>
            <a:stretch/>
          </p:blipFill>
          <p:spPr>
            <a:xfrm>
              <a:off x="110880" y="310320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7480" y="31032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3"/>
            <a:stretch/>
          </p:blipFill>
          <p:spPr>
            <a:xfrm>
              <a:off x="110880" y="32605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4"/>
            <a:stretch/>
          </p:blipFill>
          <p:spPr>
            <a:xfrm>
              <a:off x="110880" y="32605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5"/>
            <a:stretch/>
          </p:blipFill>
          <p:spPr>
            <a:xfrm>
              <a:off x="110880" y="32605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7840" y="326052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ag, 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91440" y="2994840"/>
              <a:ext cx="900360" cy="117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0760" y="309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2160" y="3112920"/>
              <a:ext cx="909720" cy="117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49080" y="301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5480" y="3171600"/>
              <a:ext cx="17640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111" y="37"/>
                  </a:moveTo>
                  <a:lnTo>
                    <a:pt x="62" y="0"/>
                  </a:lnTo>
                  <a:lnTo>
                    <a:pt x="0" y="25"/>
                  </a:lnTo>
                  <a:lnTo>
                    <a:pt x="50" y="62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0760" y="3093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9080" y="3014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8800" y="5297040"/>
              <a:ext cx="998640" cy="8924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1280" y="532728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98800" y="5503680"/>
              <a:ext cx="998640" cy="685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98800" y="5738400"/>
              <a:ext cx="998640" cy="451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6"/>
            <a:stretch/>
          </p:blipFill>
          <p:spPr>
            <a:xfrm>
              <a:off x="5729040" y="5522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7"/>
            <a:stretch/>
          </p:blipFill>
          <p:spPr>
            <a:xfrm>
              <a:off x="5729040" y="5522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8"/>
            <a:stretch/>
          </p:blipFill>
          <p:spPr>
            <a:xfrm>
              <a:off x="5729040" y="5522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884560" y="552276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5729040" y="58370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0"/>
            <a:stretch/>
          </p:blipFill>
          <p:spPr>
            <a:xfrm>
              <a:off x="5729040" y="58370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1"/>
            <a:stretch/>
          </p:blipFill>
          <p:spPr>
            <a:xfrm>
              <a:off x="5729040" y="58370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883840" y="583704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grat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2"/>
            <a:stretch/>
          </p:blipFill>
          <p:spPr>
            <a:xfrm>
              <a:off x="5729040" y="59925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5729040" y="59925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4"/>
            <a:stretch/>
          </p:blipFill>
          <p:spPr>
            <a:xfrm>
              <a:off x="5729040" y="59925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884560" y="599256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Potential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0440" y="3368520"/>
              <a:ext cx="704880" cy="2347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88000" y="340668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uid fl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22760" y="3485880"/>
              <a:ext cx="1144440" cy="9000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02840" y="352080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rfM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2760" y="3700080"/>
              <a:ext cx="1144440" cy="685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2760" y="3936600"/>
              <a:ext cx="1144440" cy="449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5"/>
            <a:stretch/>
          </p:blipFill>
          <p:spPr>
            <a:xfrm>
              <a:off x="5553000" y="37209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6"/>
            <a:stretch/>
          </p:blipFill>
          <p:spPr>
            <a:xfrm>
              <a:off x="5553000" y="37209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7"/>
            <a:stretch/>
          </p:blipFill>
          <p:spPr>
            <a:xfrm>
              <a:off x="5553000" y="37209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707800" y="372096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5553000" y="4033440"/>
              <a:ext cx="1555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5553000" y="4033440"/>
              <a:ext cx="1555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5553000" y="4033440"/>
              <a:ext cx="15552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07440" y="40334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vanc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1"/>
            <a:stretch/>
          </p:blipFill>
          <p:spPr>
            <a:xfrm>
              <a:off x="5553000" y="41907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2"/>
            <a:stretch/>
          </p:blipFill>
          <p:spPr>
            <a:xfrm>
              <a:off x="5553000" y="41907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3"/>
            <a:stretch/>
          </p:blipFill>
          <p:spPr>
            <a:xfrm>
              <a:off x="5553000" y="4190760"/>
              <a:ext cx="1555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708520" y="419076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urrentDeposi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91440" y="2936160"/>
              <a:ext cx="2387880" cy="19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26160" y="2927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79680" y="2955600"/>
              <a:ext cx="2201760" cy="530280"/>
            </a:xfrm>
            <a:custGeom>
              <a:avLst/>
              <a:gdLst/>
              <a:ahLst/>
              <a:rect l="l" t="t" r="r" b="b"/>
              <a:pathLst>
                <a:path w="225" h="54">
                  <a:moveTo>
                    <a:pt x="0" y="0"/>
                  </a:moveTo>
                  <a:lnTo>
                    <a:pt x="164" y="2"/>
                  </a:lnTo>
                  <a:lnTo>
                    <a:pt x="225" y="5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8000" y="323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45000" y="3377880"/>
              <a:ext cx="136440" cy="10800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86" y="68"/>
                  </a:moveTo>
                  <a:lnTo>
                    <a:pt x="61" y="12"/>
                  </a:lnTo>
                  <a:lnTo>
                    <a:pt x="0" y="0"/>
                  </a:lnTo>
                  <a:lnTo>
                    <a:pt x="24" y="55"/>
                  </a:lnTo>
                  <a:lnTo>
                    <a:pt x="86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6160" y="2927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38000" y="3239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0160" y="4836960"/>
              <a:ext cx="68400" cy="450720"/>
            </a:xfrm>
            <a:custGeom>
              <a:avLst/>
              <a:gdLst/>
              <a:ahLst/>
              <a:rect l="l" t="t" r="r" b="b"/>
              <a:pathLst>
                <a:path w="7" h="46">
                  <a:moveTo>
                    <a:pt x="0" y="0"/>
                  </a:moveTo>
                  <a:lnTo>
                    <a:pt x="3" y="46"/>
                  </a:lnTo>
                  <a:lnTo>
                    <a:pt x="7" y="3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119280" y="5179680"/>
              <a:ext cx="49320" cy="108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6119280" y="4385520"/>
              <a:ext cx="20520" cy="45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7680" y="496368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</a:rPr>
                <a:t>Der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8400" y="5317920"/>
              <a:ext cx="1116000" cy="7444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0680" y="534960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rcuit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8400" y="5532120"/>
              <a:ext cx="1116000" cy="530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400" y="5767200"/>
              <a:ext cx="1116000" cy="295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4"/>
            <a:stretch/>
          </p:blipFill>
          <p:spPr>
            <a:xfrm>
              <a:off x="752400" y="55465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5"/>
            <a:stretch/>
          </p:blipFill>
          <p:spPr>
            <a:xfrm>
              <a:off x="752400" y="55465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6"/>
            <a:stretch/>
          </p:blipFill>
          <p:spPr>
            <a:xfrm>
              <a:off x="752400" y="55465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99640" y="55465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37"/>
            <a:stretch/>
          </p:blipFill>
          <p:spPr>
            <a:xfrm>
              <a:off x="703080" y="58831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8"/>
            <a:stretch/>
          </p:blipFill>
          <p:spPr>
            <a:xfrm>
              <a:off x="703080" y="58831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9"/>
            <a:stretch/>
          </p:blipFill>
          <p:spPr>
            <a:xfrm>
              <a:off x="703080" y="5883120"/>
              <a:ext cx="14760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51400" y="588312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814400" y="5689080"/>
              <a:ext cx="1936800" cy="19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0800" y="5787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1200" y="5708520"/>
              <a:ext cx="1938240" cy="29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3720" y="582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22760" y="5689440"/>
              <a:ext cx="166680" cy="8892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105" y="31"/>
                  </a:moveTo>
                  <a:lnTo>
                    <a:pt x="56" y="0"/>
                  </a:lnTo>
                  <a:lnTo>
                    <a:pt x="0" y="25"/>
                  </a:lnTo>
                  <a:lnTo>
                    <a:pt x="56" y="56"/>
                  </a:lnTo>
                  <a:lnTo>
                    <a:pt x="10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0800" y="5787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63720" y="582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73080" y="723600"/>
              <a:ext cx="1339920" cy="12146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9160" y="777600"/>
              <a:ext cx="1093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olDistrib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73080" y="937800"/>
              <a:ext cx="1339920" cy="10004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73080" y="1330200"/>
              <a:ext cx="1339920" cy="6080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40"/>
            <a:stretch/>
          </p:blipFill>
          <p:spPr>
            <a:xfrm>
              <a:off x="2801880" y="95868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1"/>
            <a:stretch/>
          </p:blipFill>
          <p:spPr>
            <a:xfrm>
              <a:off x="2801880" y="95868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42"/>
            <a:stretch/>
          </p:blipFill>
          <p:spPr>
            <a:xfrm>
              <a:off x="2801880" y="95868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959200" y="958680"/>
              <a:ext cx="110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istribution f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43"/>
            <a:stretch/>
          </p:blipFill>
          <p:spPr>
            <a:xfrm>
              <a:off x="2801880" y="111420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4"/>
            <a:stretch/>
          </p:blipFill>
          <p:spPr>
            <a:xfrm>
              <a:off x="2801880" y="111420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45"/>
            <a:stretch/>
          </p:blipFill>
          <p:spPr>
            <a:xfrm>
              <a:off x="2801880" y="111420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959200" y="111420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ossibly mo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6"/>
            <a:stretch/>
          </p:blipFill>
          <p:spPr>
            <a:xfrm>
              <a:off x="2801880" y="142848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47"/>
            <a:stretch/>
          </p:blipFill>
          <p:spPr>
            <a:xfrm>
              <a:off x="2801880" y="142848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48"/>
            <a:stretch/>
          </p:blipFill>
          <p:spPr>
            <a:xfrm>
              <a:off x="2801880" y="142848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958840" y="142848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v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49"/>
            <a:stretch/>
          </p:blipFill>
          <p:spPr>
            <a:xfrm>
              <a:off x="2801880" y="1585800"/>
              <a:ext cx="1569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0"/>
            <a:stretch/>
          </p:blipFill>
          <p:spPr>
            <a:xfrm>
              <a:off x="2801880" y="1585800"/>
              <a:ext cx="15696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1"/>
            <a:stretch/>
          </p:blipFill>
          <p:spPr>
            <a:xfrm>
              <a:off x="2801880" y="1585800"/>
              <a:ext cx="15696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958840" y="158580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Momen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52"/>
            <a:stretch/>
          </p:blipFill>
          <p:spPr>
            <a:xfrm>
              <a:off x="2801880" y="1741320"/>
              <a:ext cx="15696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3"/>
            <a:stretch/>
          </p:blipFill>
          <p:spPr>
            <a:xfrm>
              <a:off x="2801880" y="1741320"/>
              <a:ext cx="15696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4"/>
            <a:stretch/>
          </p:blipFill>
          <p:spPr>
            <a:xfrm>
              <a:off x="2801880" y="1741320"/>
              <a:ext cx="156960" cy="1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959560" y="174132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858480" y="1937880"/>
              <a:ext cx="73080" cy="107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58840" y="1938240"/>
              <a:ext cx="157320" cy="195120"/>
            </a:xfrm>
            <a:custGeom>
              <a:avLst/>
              <a:gdLst/>
              <a:ahLst/>
              <a:rect l="l" t="t" r="r" b="b"/>
              <a:pathLst>
                <a:path w="99" h="123">
                  <a:moveTo>
                    <a:pt x="0" y="0"/>
                  </a:moveTo>
                  <a:lnTo>
                    <a:pt x="99" y="74"/>
                  </a:lnTo>
                  <a:lnTo>
                    <a:pt x="31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00" y="909360"/>
              <a:ext cx="801720" cy="10476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0680" y="92988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ol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000" y="1114200"/>
              <a:ext cx="801720" cy="842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000" y="1506240"/>
              <a:ext cx="801720" cy="450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5"/>
            <a:stretch/>
          </p:blipFill>
          <p:spPr>
            <a:xfrm>
              <a:off x="766440" y="11347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56"/>
            <a:stretch/>
          </p:blipFill>
          <p:spPr>
            <a:xfrm>
              <a:off x="766440" y="11347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57"/>
            <a:stretch/>
          </p:blipFill>
          <p:spPr>
            <a:xfrm>
              <a:off x="766440" y="113472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923400" y="1134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58"/>
            <a:stretch/>
          </p:blipFill>
          <p:spPr>
            <a:xfrm>
              <a:off x="766440" y="1290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59"/>
            <a:stretch/>
          </p:blipFill>
          <p:spPr>
            <a:xfrm>
              <a:off x="766440" y="1290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60"/>
            <a:stretch/>
          </p:blipFill>
          <p:spPr>
            <a:xfrm>
              <a:off x="766440" y="1290240"/>
              <a:ext cx="1573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23400" y="129024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ent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61"/>
            <a:stretch/>
          </p:blipFill>
          <p:spPr>
            <a:xfrm>
              <a:off x="766440" y="1604520"/>
              <a:ext cx="157320" cy="1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62"/>
            <a:stretch/>
          </p:blipFill>
          <p:spPr>
            <a:xfrm>
              <a:off x="766440" y="1604520"/>
              <a:ext cx="157320" cy="1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3"/>
            <a:stretch/>
          </p:blipFill>
          <p:spPr>
            <a:xfrm>
              <a:off x="766440" y="1604520"/>
              <a:ext cx="157320" cy="1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23760" y="160452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Field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64"/>
            <a:stretch/>
          </p:blipFill>
          <p:spPr>
            <a:xfrm>
              <a:off x="766440" y="176184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65"/>
            <a:stretch/>
          </p:blipFill>
          <p:spPr>
            <a:xfrm>
              <a:off x="766440" y="176184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66"/>
            <a:stretch/>
          </p:blipFill>
          <p:spPr>
            <a:xfrm>
              <a:off x="766440" y="176184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924480" y="176184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8360" y="1849320"/>
              <a:ext cx="782640" cy="1857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80" y="0"/>
                  </a:moveTo>
                  <a:lnTo>
                    <a:pt x="80" y="19"/>
                  </a:lnTo>
                  <a:lnTo>
                    <a:pt x="0" y="19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38360" y="2035080"/>
              <a:ext cx="117360" cy="48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438360" y="1986840"/>
              <a:ext cx="117360" cy="47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3000" y="1330200"/>
              <a:ext cx="108000" cy="519120"/>
            </a:xfrm>
            <a:custGeom>
              <a:avLst/>
              <a:gdLst/>
              <a:ahLst/>
              <a:rect l="l" t="t" r="r" b="b"/>
              <a:pathLst>
                <a:path w="11" h="53">
                  <a:moveTo>
                    <a:pt x="11" y="53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220640" y="1839600"/>
              <a:ext cx="166680" cy="97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5920" y="547560"/>
              <a:ext cx="1135080" cy="1369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26880" y="549000"/>
              <a:ext cx="62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olMe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25920" y="761760"/>
              <a:ext cx="1135080" cy="1155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5920" y="996840"/>
              <a:ext cx="1135080" cy="920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67"/>
            <a:stretch/>
          </p:blipFill>
          <p:spPr>
            <a:xfrm>
              <a:off x="5454360" y="78228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68"/>
            <a:stretch/>
          </p:blipFill>
          <p:spPr>
            <a:xfrm>
              <a:off x="5454360" y="78228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9"/>
            <a:stretch/>
          </p:blipFill>
          <p:spPr>
            <a:xfrm>
              <a:off x="5454360" y="78228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610960" y="78228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70"/>
            <a:stretch/>
          </p:blipFill>
          <p:spPr>
            <a:xfrm>
              <a:off x="5454360" y="109512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1"/>
            <a:stretch/>
          </p:blipFill>
          <p:spPr>
            <a:xfrm>
              <a:off x="5454360" y="109512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2"/>
            <a:stretch/>
          </p:blipFill>
          <p:spPr>
            <a:xfrm>
              <a:off x="5454360" y="109512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5611680" y="1095120"/>
              <a:ext cx="85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oissonSolv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73"/>
            <a:stretch/>
          </p:blipFill>
          <p:spPr>
            <a:xfrm>
              <a:off x="5454360" y="1252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74"/>
            <a:stretch/>
          </p:blipFill>
          <p:spPr>
            <a:xfrm>
              <a:off x="5454360" y="1252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5"/>
            <a:stretch/>
          </p:blipFill>
          <p:spPr>
            <a:xfrm>
              <a:off x="5454360" y="1252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10600" y="12524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vanc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76"/>
            <a:stretch/>
          </p:blipFill>
          <p:spPr>
            <a:xfrm>
              <a:off x="5454360" y="14094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77"/>
            <a:stretch/>
          </p:blipFill>
          <p:spPr>
            <a:xfrm>
              <a:off x="5454360" y="14094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8"/>
            <a:stretch/>
          </p:blipFill>
          <p:spPr>
            <a:xfrm>
              <a:off x="5454360" y="14094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611680" y="1409400"/>
              <a:ext cx="92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hargeDeposi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79"/>
            <a:stretch/>
          </p:blipFill>
          <p:spPr>
            <a:xfrm>
              <a:off x="5454360" y="156492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80"/>
            <a:stretch/>
          </p:blipFill>
          <p:spPr>
            <a:xfrm>
              <a:off x="5454360" y="156492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81"/>
            <a:stretch/>
          </p:blipFill>
          <p:spPr>
            <a:xfrm>
              <a:off x="5454360" y="156492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611320" y="156492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adien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82"/>
            <a:stretch/>
          </p:blipFill>
          <p:spPr>
            <a:xfrm>
              <a:off x="5454360" y="17222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3"/>
            <a:stretch/>
          </p:blipFill>
          <p:spPr>
            <a:xfrm>
              <a:off x="5454360" y="17222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4"/>
            <a:stretch/>
          </p:blipFill>
          <p:spPr>
            <a:xfrm>
              <a:off x="5454360" y="17222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611320" y="172224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rpolat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991800" y="2790720"/>
              <a:ext cx="2486160" cy="117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4160" y="2741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77960" y="1917360"/>
              <a:ext cx="2054160" cy="873360"/>
            </a:xfrm>
            <a:custGeom>
              <a:avLst/>
              <a:gdLst/>
              <a:ahLst/>
              <a:rect l="l" t="t" r="r" b="b"/>
              <a:pathLst>
                <a:path w="210" h="89">
                  <a:moveTo>
                    <a:pt x="0" y="89"/>
                  </a:moveTo>
                  <a:lnTo>
                    <a:pt x="154" y="82"/>
                  </a:lnTo>
                  <a:lnTo>
                    <a:pt x="21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44640" y="209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5280" y="1917360"/>
              <a:ext cx="96840" cy="138240"/>
            </a:xfrm>
            <a:custGeom>
              <a:avLst/>
              <a:gdLst/>
              <a:ahLst/>
              <a:rect l="l" t="t" r="r" b="b"/>
              <a:pathLst>
                <a:path w="61" h="87">
                  <a:moveTo>
                    <a:pt x="61" y="0"/>
                  </a:moveTo>
                  <a:lnTo>
                    <a:pt x="55" y="56"/>
                  </a:lnTo>
                  <a:lnTo>
                    <a:pt x="0" y="87"/>
                  </a:lnTo>
                  <a:lnTo>
                    <a:pt x="6" y="2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34160" y="27414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4640" y="209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112640" y="1280880"/>
              <a:ext cx="655560" cy="20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82120" y="1095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768560" y="1252080"/>
              <a:ext cx="657360" cy="28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59880" y="1350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59240" y="1212480"/>
              <a:ext cx="166680" cy="8892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105" y="25"/>
                  </a:moveTo>
                  <a:lnTo>
                    <a:pt x="55" y="56"/>
                  </a:lnTo>
                  <a:lnTo>
                    <a:pt x="0" y="31"/>
                  </a:lnTo>
                  <a:lnTo>
                    <a:pt x="49" y="0"/>
                  </a:lnTo>
                  <a:lnTo>
                    <a:pt x="105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82120" y="1095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59880" y="13507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39720" y="576000"/>
              <a:ext cx="1898640" cy="608040"/>
            </a:xfrm>
            <a:custGeom>
              <a:avLst/>
              <a:gdLst/>
              <a:ahLst/>
              <a:rect l="l" t="t" r="r" b="b"/>
              <a:pathLst>
                <a:path w="194" h="62">
                  <a:moveTo>
                    <a:pt x="194" y="0"/>
                  </a:moveTo>
                  <a:lnTo>
                    <a:pt x="103" y="0"/>
                  </a:lnTo>
                  <a:lnTo>
                    <a:pt x="0" y="6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37280" y="830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38360" y="576000"/>
              <a:ext cx="1987560" cy="401760"/>
            </a:xfrm>
            <a:custGeom>
              <a:avLst/>
              <a:gdLst/>
              <a:ahLst/>
              <a:rect l="l" t="t" r="r" b="b"/>
              <a:pathLst>
                <a:path w="203" h="41">
                  <a:moveTo>
                    <a:pt x="0" y="0"/>
                  </a:moveTo>
                  <a:lnTo>
                    <a:pt x="109" y="0"/>
                  </a:lnTo>
                  <a:lnTo>
                    <a:pt x="203" y="4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14080" y="61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68600" y="90000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9" y="49"/>
                  </a:moveTo>
                  <a:lnTo>
                    <a:pt x="62" y="0"/>
                  </a:lnTo>
                  <a:lnTo>
                    <a:pt x="0" y="6"/>
                  </a:lnTo>
                  <a:lnTo>
                    <a:pt x="37" y="55"/>
                  </a:lnTo>
                  <a:lnTo>
                    <a:pt x="9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37280" y="830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4080" y="615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240" y="2701800"/>
              <a:ext cx="30240" cy="784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58880" y="3230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022440" y="1917000"/>
              <a:ext cx="28440" cy="784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8920" y="1996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73480" y="1917360"/>
              <a:ext cx="96840" cy="166680"/>
            </a:xfrm>
            <a:custGeom>
              <a:avLst/>
              <a:gdLst/>
              <a:ahLst/>
              <a:rect l="l" t="t" r="r" b="b"/>
              <a:pathLst>
                <a:path w="61" h="105">
                  <a:moveTo>
                    <a:pt x="31" y="0"/>
                  </a:moveTo>
                  <a:lnTo>
                    <a:pt x="61" y="50"/>
                  </a:lnTo>
                  <a:lnTo>
                    <a:pt x="37" y="105"/>
                  </a:lnTo>
                  <a:lnTo>
                    <a:pt x="0" y="56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8880" y="3230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8920" y="1996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4720" y="742680"/>
              <a:ext cx="782640" cy="577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01240" y="7776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s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4720" y="948960"/>
              <a:ext cx="782640" cy="37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54720" y="1026720"/>
              <a:ext cx="782640" cy="293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5"/>
            <a:stretch/>
          </p:blipFill>
          <p:spPr>
            <a:xfrm>
              <a:off x="7284960" y="112536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86"/>
            <a:stretch/>
          </p:blipFill>
          <p:spPr>
            <a:xfrm>
              <a:off x="7284960" y="112536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87"/>
            <a:stretch/>
          </p:blipFill>
          <p:spPr>
            <a:xfrm>
              <a:off x="7284960" y="112536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39760" y="112536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grat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561000" y="1114200"/>
              <a:ext cx="341280" cy="493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902280" y="1076040"/>
              <a:ext cx="352440" cy="38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8200" y="116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78320" y="1036440"/>
              <a:ext cx="17640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111" y="25"/>
                  </a:moveTo>
                  <a:lnTo>
                    <a:pt x="62" y="62"/>
                  </a:lnTo>
                  <a:lnTo>
                    <a:pt x="0" y="43"/>
                  </a:lnTo>
                  <a:lnTo>
                    <a:pt x="50" y="0"/>
                  </a:lnTo>
                  <a:lnTo>
                    <a:pt x="11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5720" y="477720"/>
              <a:ext cx="2044800" cy="245880"/>
            </a:xfrm>
            <a:custGeom>
              <a:avLst/>
              <a:gdLst/>
              <a:ahLst/>
              <a:rect l="l" t="t" r="r" b="b"/>
              <a:pathLst>
                <a:path w="209" h="25">
                  <a:moveTo>
                    <a:pt x="209" y="0"/>
                  </a:moveTo>
                  <a:lnTo>
                    <a:pt x="5" y="0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10560" y="556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00520" y="477720"/>
              <a:ext cx="2016000" cy="255600"/>
            </a:xfrm>
            <a:custGeom>
              <a:avLst/>
              <a:gdLst/>
              <a:ahLst/>
              <a:rect l="l" t="t" r="r" b="b"/>
              <a:pathLst>
                <a:path w="206" h="26">
                  <a:moveTo>
                    <a:pt x="0" y="0"/>
                  </a:moveTo>
                  <a:lnTo>
                    <a:pt x="203" y="0"/>
                  </a:lnTo>
                  <a:lnTo>
                    <a:pt x="206" y="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57840" y="566640"/>
              <a:ext cx="88920" cy="16668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37" y="105"/>
                  </a:moveTo>
                  <a:lnTo>
                    <a:pt x="56" y="49"/>
                  </a:lnTo>
                  <a:lnTo>
                    <a:pt x="25" y="0"/>
                  </a:lnTo>
                  <a:lnTo>
                    <a:pt x="0" y="55"/>
                  </a:lnTo>
                  <a:lnTo>
                    <a:pt x="37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17520" y="380880"/>
              <a:ext cx="3247920" cy="519120"/>
            </a:xfrm>
            <a:custGeom>
              <a:avLst/>
              <a:gdLst/>
              <a:ahLst/>
              <a:rect l="l" t="t" r="r" b="b"/>
              <a:pathLst>
                <a:path w="332" h="53">
                  <a:moveTo>
                    <a:pt x="332" y="0"/>
                  </a:moveTo>
                  <a:lnTo>
                    <a:pt x="8" y="0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81720" y="653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65440" y="380880"/>
              <a:ext cx="3327480" cy="352440"/>
            </a:xfrm>
            <a:custGeom>
              <a:avLst/>
              <a:gdLst/>
              <a:ahLst/>
              <a:rect l="l" t="t" r="r" b="b"/>
              <a:pathLst>
                <a:path w="340" h="36">
                  <a:moveTo>
                    <a:pt x="0" y="0"/>
                  </a:moveTo>
                  <a:lnTo>
                    <a:pt x="340" y="0"/>
                  </a:lnTo>
                  <a:lnTo>
                    <a:pt x="332" y="3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86360" y="576000"/>
              <a:ext cx="87480" cy="15732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18" y="99"/>
                  </a:moveTo>
                  <a:lnTo>
                    <a:pt x="55" y="56"/>
                  </a:lnTo>
                  <a:lnTo>
                    <a:pt x="37" y="0"/>
                  </a:lnTo>
                  <a:lnTo>
                    <a:pt x="0" y="43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65880" y="2642760"/>
              <a:ext cx="977760" cy="58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99080" y="2682720"/>
              <a:ext cx="78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5880" y="2858760"/>
              <a:ext cx="977760" cy="371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65880" y="2936520"/>
              <a:ext cx="977760" cy="293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88"/>
            <a:stretch/>
          </p:blipFill>
          <p:spPr>
            <a:xfrm>
              <a:off x="8165880" y="298728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89"/>
            <a:stretch/>
          </p:blipFill>
          <p:spPr>
            <a:xfrm>
              <a:off x="8165880" y="298728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90"/>
            <a:stretch/>
          </p:blipFill>
          <p:spPr>
            <a:xfrm>
              <a:off x="8165880" y="2987280"/>
              <a:ext cx="1573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317440" y="298728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grat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813440" y="1320120"/>
              <a:ext cx="380880" cy="655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63760" y="141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4320" y="1976040"/>
              <a:ext cx="382680" cy="666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54400" y="241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97800" y="2495160"/>
              <a:ext cx="79200" cy="147600"/>
            </a:xfrm>
            <a:custGeom>
              <a:avLst/>
              <a:gdLst/>
              <a:ahLst/>
              <a:rect l="l" t="t" r="r" b="b"/>
              <a:pathLst>
                <a:path w="50" h="93">
                  <a:moveTo>
                    <a:pt x="50" y="93"/>
                  </a:moveTo>
                  <a:lnTo>
                    <a:pt x="50" y="31"/>
                  </a:lnTo>
                  <a:lnTo>
                    <a:pt x="0" y="0"/>
                  </a:lnTo>
                  <a:lnTo>
                    <a:pt x="0" y="62"/>
                  </a:lnTo>
                  <a:lnTo>
                    <a:pt x="5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27640" y="4562280"/>
              <a:ext cx="1135080" cy="1049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24560" y="45874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pacec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7640" y="4768560"/>
              <a:ext cx="1135080" cy="843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7640" y="4846320"/>
              <a:ext cx="1135080" cy="765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91"/>
            <a:stretch/>
          </p:blipFill>
          <p:spPr>
            <a:xfrm>
              <a:off x="7157880" y="49449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2"/>
            <a:stretch/>
          </p:blipFill>
          <p:spPr>
            <a:xfrm>
              <a:off x="7157880" y="49449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3"/>
            <a:stretch/>
          </p:blipFill>
          <p:spPr>
            <a:xfrm>
              <a:off x="7157880" y="49449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314840" y="494496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eriveCircui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7157880" y="5101920"/>
              <a:ext cx="155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7157880" y="5101920"/>
              <a:ext cx="15552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7157880" y="5101920"/>
              <a:ext cx="1555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312680" y="51019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grat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97"/>
            <a:stretch/>
          </p:blipFill>
          <p:spPr>
            <a:xfrm>
              <a:off x="7157880" y="52592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8"/>
            <a:stretch/>
          </p:blipFill>
          <p:spPr>
            <a:xfrm>
              <a:off x="7157880" y="52592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99"/>
            <a:stretch/>
          </p:blipFill>
          <p:spPr>
            <a:xfrm>
              <a:off x="7157880" y="5259240"/>
              <a:ext cx="15552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314120" y="525924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SurfToCirc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100"/>
            <a:stretch/>
          </p:blipFill>
          <p:spPr>
            <a:xfrm>
              <a:off x="7157880" y="5414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1"/>
            <a:stretch/>
          </p:blipFill>
          <p:spPr>
            <a:xfrm>
              <a:off x="7157880" y="5414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2"/>
            <a:stretch/>
          </p:blipFill>
          <p:spPr>
            <a:xfrm>
              <a:off x="7157880" y="5414760"/>
              <a:ext cx="15552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314120" y="5414760"/>
              <a:ext cx="93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CircToSurf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697440" y="5424120"/>
              <a:ext cx="216000" cy="98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55760" y="55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913440" y="5337000"/>
              <a:ext cx="214200" cy="87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81120" y="5464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72120" y="5327280"/>
              <a:ext cx="155520" cy="8748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98" y="6"/>
                  </a:moveTo>
                  <a:lnTo>
                    <a:pt x="61" y="55"/>
                  </a:lnTo>
                  <a:lnTo>
                    <a:pt x="0" y="43"/>
                  </a:lnTo>
                  <a:lnTo>
                    <a:pt x="37" y="0"/>
                  </a:lnTo>
                  <a:lnTo>
                    <a:pt x="9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55760" y="558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81120" y="5464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667200" y="4347360"/>
              <a:ext cx="225360" cy="166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46400" y="421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92560" y="4514400"/>
              <a:ext cx="235080" cy="165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36640" y="4425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91200" y="4582800"/>
              <a:ext cx="136440" cy="9684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86" y="61"/>
                  </a:moveTo>
                  <a:lnTo>
                    <a:pt x="62" y="6"/>
                  </a:lnTo>
                  <a:lnTo>
                    <a:pt x="0" y="0"/>
                  </a:lnTo>
                  <a:lnTo>
                    <a:pt x="25" y="49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46400" y="421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36640" y="44258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949520" y="3897000"/>
              <a:ext cx="322200" cy="665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600" y="436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272080" y="3230280"/>
              <a:ext cx="333360" cy="666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27680" y="323028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49" y="0"/>
                  </a:moveTo>
                  <a:lnTo>
                    <a:pt x="49" y="62"/>
                  </a:lnTo>
                  <a:lnTo>
                    <a:pt x="0" y="93"/>
                  </a:lnTo>
                  <a:lnTo>
                    <a:pt x="0" y="3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1800" y="3661920"/>
              <a:ext cx="801720" cy="1047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79280" y="367308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rf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1800" y="3866760"/>
              <a:ext cx="801720" cy="843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91800" y="4259160"/>
              <a:ext cx="801720" cy="450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103"/>
            <a:stretch/>
          </p:blipFill>
          <p:spPr>
            <a:xfrm>
              <a:off x="1020600" y="388764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04"/>
            <a:stretch/>
          </p:blipFill>
          <p:spPr>
            <a:xfrm>
              <a:off x="1020600" y="388764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5"/>
            <a:stretch/>
          </p:blipFill>
          <p:spPr>
            <a:xfrm>
              <a:off x="1020600" y="3887640"/>
              <a:ext cx="156960" cy="1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77560" y="38876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106"/>
            <a:stretch/>
          </p:blipFill>
          <p:spPr>
            <a:xfrm>
              <a:off x="1020600" y="404316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107"/>
            <a:stretch/>
          </p:blipFill>
          <p:spPr>
            <a:xfrm>
              <a:off x="1020600" y="404316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108"/>
            <a:stretch/>
          </p:blipFill>
          <p:spPr>
            <a:xfrm>
              <a:off x="1020600" y="4043160"/>
              <a:ext cx="15696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177560" y="4043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ent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09"/>
            <a:stretch/>
          </p:blipFill>
          <p:spPr>
            <a:xfrm>
              <a:off x="1020600" y="435744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110"/>
            <a:stretch/>
          </p:blipFill>
          <p:spPr>
            <a:xfrm>
              <a:off x="1020600" y="435744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111"/>
            <a:stretch/>
          </p:blipFill>
          <p:spPr>
            <a:xfrm>
              <a:off x="1020600" y="435744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178280" y="435744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112"/>
            <a:stretch/>
          </p:blipFill>
          <p:spPr>
            <a:xfrm>
              <a:off x="1020600" y="451440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113"/>
            <a:stretch/>
          </p:blipFill>
          <p:spPr>
            <a:xfrm>
              <a:off x="1020600" y="451440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114"/>
            <a:stretch/>
          </p:blipFill>
          <p:spPr>
            <a:xfrm>
              <a:off x="1020600" y="4514400"/>
              <a:ext cx="15696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177920" y="45144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Field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793160" y="3749400"/>
              <a:ext cx="187560" cy="138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981080" y="3603240"/>
              <a:ext cx="195120" cy="146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49120" y="3603240"/>
              <a:ext cx="127080" cy="968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80" y="0"/>
                  </a:moveTo>
                  <a:lnTo>
                    <a:pt x="55" y="55"/>
                  </a:lnTo>
                  <a:lnTo>
                    <a:pt x="0" y="61"/>
                  </a:lnTo>
                  <a:lnTo>
                    <a:pt x="18" y="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520" y="4425840"/>
              <a:ext cx="2173320" cy="685800"/>
            </a:xfrm>
            <a:custGeom>
              <a:avLst/>
              <a:gdLst/>
              <a:ahLst/>
              <a:rect l="l" t="t" r="r" b="b"/>
              <a:pathLst>
                <a:path w="222" h="70">
                  <a:moveTo>
                    <a:pt x="222" y="70"/>
                  </a:moveTo>
                  <a:lnTo>
                    <a:pt x="114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62640" y="428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6840" y="4385880"/>
              <a:ext cx="1898640" cy="72576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0" y="74"/>
                  </a:moveTo>
                  <a:lnTo>
                    <a:pt x="158" y="74"/>
                  </a:lnTo>
                  <a:lnTo>
                    <a:pt x="194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4200" y="459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7720" y="4385880"/>
              <a:ext cx="87480" cy="157320"/>
            </a:xfrm>
            <a:custGeom>
              <a:avLst/>
              <a:gdLst/>
              <a:ahLst/>
              <a:rect l="l" t="t" r="r" b="b"/>
              <a:pathLst>
                <a:path w="55" h="99">
                  <a:moveTo>
                    <a:pt x="49" y="0"/>
                  </a:moveTo>
                  <a:lnTo>
                    <a:pt x="55" y="62"/>
                  </a:lnTo>
                  <a:lnTo>
                    <a:pt x="6" y="99"/>
                  </a:lnTo>
                  <a:lnTo>
                    <a:pt x="0" y="3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62640" y="4289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4200" y="4592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14400" y="5287680"/>
              <a:ext cx="1144440" cy="312840"/>
            </a:xfrm>
            <a:custGeom>
              <a:avLst/>
              <a:gdLst/>
              <a:ahLst/>
              <a:rect l="l" t="t" r="r" b="b"/>
              <a:pathLst>
                <a:path w="117" h="32">
                  <a:moveTo>
                    <a:pt x="102" y="0"/>
                  </a:moveTo>
                  <a:lnTo>
                    <a:pt x="117" y="11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1793160" y="4493520"/>
              <a:ext cx="1019160" cy="793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11280" y="523836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</a:rPr>
                <a:t>Ma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3040" y="4524120"/>
              <a:ext cx="959040" cy="4302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60560" y="458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urfInter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13040" y="4738320"/>
              <a:ext cx="959040" cy="2160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15"/>
            <a:stretch/>
          </p:blipFill>
          <p:spPr>
            <a:xfrm>
              <a:off x="4641480" y="47592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116"/>
            <a:stretch/>
          </p:blipFill>
          <p:spPr>
            <a:xfrm>
              <a:off x="4641480" y="47592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117"/>
            <a:stretch/>
          </p:blipFill>
          <p:spPr>
            <a:xfrm>
              <a:off x="4641480" y="475920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798080" y="4759200"/>
              <a:ext cx="508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Interac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95320" y="3758760"/>
              <a:ext cx="1593720" cy="1059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1160" y="3798720"/>
              <a:ext cx="14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rface Distrib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95320" y="3974760"/>
              <a:ext cx="1593720" cy="843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95320" y="4366800"/>
              <a:ext cx="1593720" cy="451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118"/>
            <a:stretch/>
          </p:blipFill>
          <p:spPr>
            <a:xfrm>
              <a:off x="2723760" y="39956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119"/>
            <a:stretch/>
          </p:blipFill>
          <p:spPr>
            <a:xfrm>
              <a:off x="2723760" y="39956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120"/>
            <a:stretch/>
          </p:blipFill>
          <p:spPr>
            <a:xfrm>
              <a:off x="2723760" y="39956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881800" y="399564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lux 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21"/>
            <a:stretch/>
          </p:blipFill>
          <p:spPr>
            <a:xfrm>
              <a:off x="2723760" y="4151160"/>
              <a:ext cx="15732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122"/>
            <a:stretch/>
          </p:blipFill>
          <p:spPr>
            <a:xfrm>
              <a:off x="2723760" y="4151160"/>
              <a:ext cx="15732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123"/>
            <a:stretch/>
          </p:blipFill>
          <p:spPr>
            <a:xfrm>
              <a:off x="2723760" y="4151160"/>
              <a:ext cx="157320" cy="1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881440" y="415116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ossibly mo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24"/>
            <a:stretch/>
          </p:blipFill>
          <p:spPr>
            <a:xfrm>
              <a:off x="2723760" y="4465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125"/>
            <a:stretch/>
          </p:blipFill>
          <p:spPr>
            <a:xfrm>
              <a:off x="2723760" y="4465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26"/>
            <a:stretch/>
          </p:blipFill>
          <p:spPr>
            <a:xfrm>
              <a:off x="2723760" y="4465440"/>
              <a:ext cx="157320" cy="1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881080" y="4465440"/>
              <a:ext cx="74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etMomen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27"/>
            <a:stretch/>
          </p:blipFill>
          <p:spPr>
            <a:xfrm>
              <a:off x="2723760" y="462096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8"/>
            <a:stretch/>
          </p:blipFill>
          <p:spPr>
            <a:xfrm>
              <a:off x="2723760" y="462096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29"/>
            <a:stretch/>
          </p:blipFill>
          <p:spPr>
            <a:xfrm>
              <a:off x="2723760" y="4620960"/>
              <a:ext cx="15732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881800" y="46209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e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08120" y="3603240"/>
              <a:ext cx="225360" cy="155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8360" y="3593880"/>
              <a:ext cx="195120" cy="164880"/>
            </a:xfrm>
            <a:custGeom>
              <a:avLst/>
              <a:gdLst/>
              <a:ahLst/>
              <a:rect l="l" t="t" r="r" b="b"/>
              <a:pathLst>
                <a:path w="123" h="104">
                  <a:moveTo>
                    <a:pt x="123" y="104"/>
                  </a:moveTo>
                  <a:lnTo>
                    <a:pt x="49" y="0"/>
                  </a:lnTo>
                  <a:lnTo>
                    <a:pt x="0" y="74"/>
                  </a:lnTo>
                  <a:lnTo>
                    <a:pt x="12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908160" y="3476520"/>
              <a:ext cx="225360" cy="282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08160" y="3563640"/>
              <a:ext cx="166680" cy="195120"/>
            </a:xfrm>
            <a:custGeom>
              <a:avLst/>
              <a:gdLst/>
              <a:ahLst/>
              <a:rect l="l" t="t" r="r" b="b"/>
              <a:pathLst>
                <a:path w="105" h="123">
                  <a:moveTo>
                    <a:pt x="0" y="123"/>
                  </a:moveTo>
                  <a:lnTo>
                    <a:pt x="105" y="56"/>
                  </a:lnTo>
                  <a:lnTo>
                    <a:pt x="37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33520" y="3436560"/>
              <a:ext cx="96840" cy="322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13000" y="3563640"/>
              <a:ext cx="137880" cy="195120"/>
            </a:xfrm>
            <a:custGeom>
              <a:avLst/>
              <a:gdLst/>
              <a:ahLst/>
              <a:rect l="l" t="t" r="r" b="b"/>
              <a:pathLst>
                <a:path w="87" h="123">
                  <a:moveTo>
                    <a:pt x="74" y="123"/>
                  </a:moveTo>
                  <a:lnTo>
                    <a:pt x="87" y="0"/>
                  </a:lnTo>
                  <a:lnTo>
                    <a:pt x="0" y="25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289040" y="4092480"/>
              <a:ext cx="617760" cy="88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86960" y="4240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906800" y="4014000"/>
              <a:ext cx="615960" cy="78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18920" y="382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46360" y="3974760"/>
              <a:ext cx="176400" cy="9864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111" y="25"/>
                  </a:moveTo>
                  <a:lnTo>
                    <a:pt x="62" y="62"/>
                  </a:lnTo>
                  <a:lnTo>
                    <a:pt x="0" y="37"/>
                  </a:lnTo>
                  <a:lnTo>
                    <a:pt x="50" y="0"/>
                  </a:lnTo>
                  <a:lnTo>
                    <a:pt x="11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86960" y="42400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18920" y="38286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76560" y="4817880"/>
              <a:ext cx="371520" cy="1760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18"/>
                  </a:moveTo>
                  <a:lnTo>
                    <a:pt x="38" y="18"/>
                  </a:lnTo>
                  <a:lnTo>
                    <a:pt x="16" y="0"/>
                  </a:lnTo>
                  <a:lnTo>
                    <a:pt x="29" y="3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33520" y="4817880"/>
              <a:ext cx="58680" cy="108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7040" y="4817880"/>
              <a:ext cx="479520" cy="17604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49" y="18"/>
                  </a:move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54400" y="2417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99040" y="3292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76600" y="436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63760" y="1419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08200" y="1163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10560" y="556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81720" y="653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6560" y="4846320"/>
              <a:ext cx="636480" cy="14760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812680" y="5111640"/>
              <a:ext cx="4314960" cy="1760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4680" y="1976040"/>
              <a:ext cx="782640" cy="4129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40120" y="20160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u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73800" y="217296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498400" y="1790280"/>
              <a:ext cx="274680" cy="185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7960" y="1790280"/>
              <a:ext cx="195120" cy="157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123" y="0"/>
                  </a:moveTo>
                  <a:lnTo>
                    <a:pt x="49" y="99"/>
                  </a:lnTo>
                  <a:lnTo>
                    <a:pt x="0" y="3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1539360" y="1721880"/>
              <a:ext cx="176040" cy="127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88320" y="1536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15760" y="1849320"/>
              <a:ext cx="176400" cy="126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5720" y="1879200"/>
              <a:ext cx="136440" cy="9684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86" y="61"/>
                  </a:moveTo>
                  <a:lnTo>
                    <a:pt x="61" y="6"/>
                  </a:lnTo>
                  <a:lnTo>
                    <a:pt x="0" y="0"/>
                  </a:lnTo>
                  <a:lnTo>
                    <a:pt x="31" y="49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88320" y="1536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54000" y="2231640"/>
              <a:ext cx="879480" cy="4111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800" y="2260440"/>
              <a:ext cx="62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KineticP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800" y="241740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42880" y="1937880"/>
              <a:ext cx="59040" cy="284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93920" y="1938240"/>
              <a:ext cx="136440" cy="19512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68" y="0"/>
                  </a:moveTo>
                  <a:lnTo>
                    <a:pt x="86" y="123"/>
                  </a:lnTo>
                  <a:lnTo>
                    <a:pt x="0" y="10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991800" y="2682720"/>
              <a:ext cx="881280" cy="166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99440" y="2661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873080" y="2515680"/>
              <a:ext cx="880920" cy="166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4960" y="259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87320" y="2485800"/>
              <a:ext cx="166680" cy="88920"/>
            </a:xfrm>
            <a:custGeom>
              <a:avLst/>
              <a:gdLst/>
              <a:ahLst/>
              <a:rect l="l" t="t" r="r" b="b"/>
              <a:pathLst>
                <a:path w="105" h="56">
                  <a:moveTo>
                    <a:pt x="105" y="19"/>
                  </a:moveTo>
                  <a:lnTo>
                    <a:pt x="55" y="56"/>
                  </a:lnTo>
                  <a:lnTo>
                    <a:pt x="0" y="37"/>
                  </a:lnTo>
                  <a:lnTo>
                    <a:pt x="43" y="0"/>
                  </a:lnTo>
                  <a:lnTo>
                    <a:pt x="105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99440" y="2661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94960" y="259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967200" y="2629080"/>
            <a:ext cx="119160" cy="13788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0"/>
                </a:moveTo>
                <a:lnTo>
                  <a:pt x="75" y="8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6320" y="762120"/>
            <a:ext cx="9067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rt with </a:t>
            </a:r>
            <a:r>
              <a:rPr b="0" lang="en-GB" sz="20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SpisNum</a:t>
            </a:r>
            <a:r>
              <a:rPr b="0" lang="en-GB" sz="20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\doc\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 1: Surf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 2: E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 3: Part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 4: VolDist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-19080" y="0"/>
            <a:ext cx="8704800" cy="609480"/>
            <a:chOff x="-19080" y="0"/>
            <a:chExt cx="8704800" cy="609480"/>
          </a:xfrm>
        </p:grpSpPr>
        <p:sp>
          <p:nvSpPr>
            <p:cNvPr id="454" name=""/>
            <p:cNvSpPr/>
            <p:nvPr/>
          </p:nvSpPr>
          <p:spPr>
            <a:xfrm>
              <a:off x="470160" y="0"/>
              <a:ext cx="6895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JavaDoc browsing through SpisN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-19080" y="152280"/>
              <a:ext cx="870480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04920" y="8380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lly Object Oriented language, neater than C+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ultiple heritage of C++ replaced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icie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 execution: between 1 and 2 times slower than Fortran or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t development, much faster than C++ (debugging much more effic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few 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bage collector (no need to de-alloc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vadoc: very powerful html documentation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ilation Just-In-Time (pre-compilation possi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riables passed by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ven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pper/lower case usage: 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ss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vate fields, public methods (OOP,  not specific to java) =&gt; the way the class is coded can be modified provided the public interface is unchanged (the API (Application Program Interface) : the methods and their argu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160" indent="-24516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cumentation (language + library API) - download: http://java.sun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-19080" y="0"/>
            <a:ext cx="5276160" cy="609480"/>
            <a:chOff x="-19080" y="0"/>
            <a:chExt cx="5276160" cy="609480"/>
          </a:xfrm>
        </p:grpSpPr>
        <p:sp>
          <p:nvSpPr>
            <p:cNvPr id="458" name=""/>
            <p:cNvSpPr/>
            <p:nvPr/>
          </p:nvSpPr>
          <p:spPr>
            <a:xfrm>
              <a:off x="277200" y="0"/>
              <a:ext cx="4179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Java language in brie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-19080" y="152280"/>
              <a:ext cx="5276160" cy="457200"/>
            </a:xfrm>
            <a:custGeom>
              <a:avLst/>
              <a:gdLst/>
              <a:ahLst/>
              <a:rect l="l" t="t" r="r" b="b"/>
              <a:pathLst>
                <a:path w="1404" h="288">
                  <a:moveTo>
                    <a:pt x="0" y="288"/>
                  </a:moveTo>
                  <a:lnTo>
                    <a:pt x="1236" y="288"/>
                  </a:lnTo>
                  <a:lnTo>
                    <a:pt x="1404" y="0"/>
                  </a:lnTo>
                </a:path>
              </a:pathLst>
            </a:custGeom>
            <a:noFill/>
            <a:ln w="1908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09:12:10Z</dcterms:created>
  <dc:creator>DERTS</dc:creator>
  <dc:description/>
  <dc:language>en-US</dc:language>
  <cp:lastModifiedBy>roussel</cp:lastModifiedBy>
  <cp:lastPrinted>2003-09-15T08:55:05Z</cp:lastPrinted>
  <dcterms:modified xsi:type="dcterms:W3CDTF">2004-03-15T11:35:08Z</dcterms:modified>
  <cp:revision>277</cp:revision>
  <dc:subject/>
  <dc:title>NUMERICAL SIMULATION OF INDUCED ENVIRONMENT, SPUTTERING AND CONTAMINATION OF SATELLITE  DUE TO ELECTRIC PROPULSION</dc:title>
</cp:coreProperties>
</file>